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caf278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3DD0-76E4-4196-BE91-F329CA898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9D50-BBEF-43F2-9A9B-73344FEDF8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3E33-A5F8-4326-B274-DD588061D9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17C5-CA5B-4C92-898B-A64789D15D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5B35-38A7-4F8E-946A-3F829D64C0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DEF5-B805-41A6-A942-E294E5D4ADC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codone, methadone also injected.  Oxycodone was preferred drug prior to formulary change, see:   http://www.sccease.org/2012/05/opioid-addiction-in-scott-county-by-dr-shane-avery-and-lori-croasdel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55FC-DED8-403F-B95F-D445E1BE2C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8013-0BC2-4D74-AC49-FFB05A6D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F66-C374-42CE-B153-37FE3709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925-614B-43C8-A034-0DA60762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022-7001-40BB-991C-4C102249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5337-921E-4296-B77D-135894A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4CC6-1A1C-49D1-B2DF-CCA3891D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5E2D-AF30-4BB1-BE98-7A7589A16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575F-5E6D-43BF-9F24-A6E1ABA2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A63F-3903-4B03-84F5-EFA73C15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AD38-1189-43F0-965C-4A97FDDF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D809-EBBD-4B8A-A2C2-C8EFE615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EFE1-0C7A-40F1-BF42-1CAD49B0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1406-083A-4347-94A7-6D83840C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D751-4AA0-4D09-8A4F-85D85AC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4E59-E5CE-4DAA-9CD0-7544309C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F525-0596-47D5-8A7F-C8A2EDA0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A9B7-B0A2-435B-B3E1-A47727BF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5CD4-AAB6-4FC3-8C8C-06A8D7C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F8A-FC80-4C08-B73A-D9868824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B81-78A2-4C85-83AF-14DCCCFE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9A11-7DBA-49B1-9046-E74792BB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838-02AD-42E0-842C-035045E7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5194-7558-4C98-875A-67CD90929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49FE-F0BB-48ED-86DF-73FB2112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1685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D321-E2A3-450C-9CC7-974E187761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af278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caf278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1685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af27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A8EB7-1ADF-4E5C-941F-991D1B2F6690}" type="slidenum">
              <a:rPr b="1" lang="en-US" sz="1400" spc="-1" strike="noStrike">
                <a:solidFill>
                  <a:srgbClr val="caf27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71685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bd0d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10cf9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in.gov/isdh/files/comm_dis_rule(1).pdf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dc.gov/hepatitis/hbv/statisticshbv.htm#section4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vcaine@marionhealth.org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quickfacts.census.gov/qfd/states/18/18143.html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af278"/>
                </a:solidFill>
                <a:latin typeface="Tw Cen MT"/>
              </a:rPr>
              <a:t>Challenges Facing Communities Combating Hepatitis C</a:t>
            </a:r>
            <a:endParaRPr b="0" lang="en-US" sz="4000" spc="-1" strike="noStrike">
              <a:solidFill>
                <a:srgbClr val="caf278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4920" y="3733920"/>
            <a:ext cx="76197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Dr. Virginia A. Caine, M.D. 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Director, Marion County Public Health Department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Associate Professor of Medicine, Division of Infectious Diseases,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Indiana University School of Medicine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w Cen MT"/>
              </a:rPr>
              <a:t>Chair, Infectious Diseases Section, National Medical Association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3714840" y="30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9" name="Object 7"/>
          <p:cNvGraphicFramePr/>
          <p:nvPr/>
        </p:nvGraphicFramePr>
        <p:xfrm>
          <a:off x="6629400" y="5486400"/>
          <a:ext cx="227952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5486400"/>
                    <a:ext cx="227952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e3d2d"/>
                </a:solidFill>
                <a:latin typeface="Tw Cen MT"/>
              </a:rPr>
              <a:t>Ages of Hepatitis C Acute Cases</a:t>
            </a:r>
            <a:br>
              <a:rPr sz="3600"/>
            </a:br>
            <a:r>
              <a:rPr b="0" lang="en-US" sz="3600" spc="-1" strike="noStrike">
                <a:solidFill>
                  <a:srgbClr val="3e3d2d"/>
                </a:solidFill>
                <a:latin typeface="Tw Cen MT"/>
              </a:rPr>
              <a:t>2009-2014, Marion County, Indiana</a:t>
            </a:r>
            <a:endParaRPr b="0" lang="en-US" sz="3600" spc="-1" strike="noStrike">
              <a:solidFill>
                <a:srgbClr val="3e3d2d"/>
              </a:solidFill>
              <a:latin typeface="Tw Cen MT"/>
            </a:endParaRPr>
          </a:p>
        </p:txBody>
      </p:sp>
      <p:pic>
        <p:nvPicPr>
          <p:cNvPr id="168" name="Content Placeholder 3" descr=""/>
          <p:cNvPicPr/>
          <p:nvPr/>
        </p:nvPicPr>
        <p:blipFill>
          <a:blip r:embed="rId1"/>
          <a:stretch/>
        </p:blipFill>
        <p:spPr>
          <a:xfrm>
            <a:off x="1143000" y="1184400"/>
            <a:ext cx="654048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Hepatitis C, Drug Use, Overdose Deaths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Drug overdose deaths utilized as a secondary indicato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rion County Rate (18.4/100,000) is 25% higher than Indiana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 Rate (14.85/100,000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les more likely to die from overdose death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male overdose death increased from 60 in 2010 to 80 in 2014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Hepatitis C, Drug Use, Non-Fatal Overdoses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n-fatal opioid overdoses in Marion County are higher than India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arion County: 38.14 per 100,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13800" indent="-26172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Indiana: 27.97 per 100,000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males are hospitalized at a higher rate than mal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Hospitalizations due to overdose steadily declining from 64,000 in 2009 to 60,000 in 201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Indiana Hepatitis C Reporting Rule</a:t>
            </a: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038480" y="6265800"/>
            <a:ext cx="4876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68200"/>
                </a:solidFill>
                <a:uFillTx/>
                <a:latin typeface="Tahoma"/>
                <a:hlinkClick r:id="rId1"/>
              </a:rPr>
              <a:t>http://www.in.gov/isdh/files/comm_dis_rule(1).pd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95280" y="1828800"/>
          <a:ext cx="6248520" cy="4022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  <a:gridCol w="1562040"/>
                <a:gridCol w="15620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h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vi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thin 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cal Health Dep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borat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 and Chron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thin 7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cal Health Dep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spi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ithin 5 Day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cal Health Dep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Tw Cen MT"/>
              </a:rPr>
              <a:t>Chronic HCV Data: Surrounding States and Similar Cities</a:t>
            </a:r>
            <a:endParaRPr b="0" lang="en-US" sz="4000" spc="-1" strike="noStrike">
              <a:solidFill>
                <a:srgbClr val="3e3d2d"/>
              </a:solidFill>
              <a:latin typeface="Tw Cen MT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990720" y="1676520"/>
          <a:ext cx="7315200" cy="451476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ity/Cou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 HCV Incide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ear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icago/C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ndianapolis/Marion Cou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lumbus/Frankl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incinnati/Hami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shville/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eveland/Cuyaho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uisville/Jeffer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t repo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Gaps in Hep. C Reporting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54880" indent="-2548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70 to 80% of people with Acute Hep. C do not develop symptom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54880" indent="-2548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esting recommendations focus on baby-boomer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511560" indent="-21816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Providers generally follow these guidelines, excluding younger people from testing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54880" indent="-2548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Reporting rules only require providers to conduct case history and report acute cas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54880" indent="-2548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 significant number of acute and chronic cases of Hep. In young people missed because of discrepancy between guidelines and disease symptom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TextBox 3"/>
          <p:cNvSpPr/>
          <p:nvPr/>
        </p:nvSpPr>
        <p:spPr>
          <a:xfrm>
            <a:off x="4038480" y="6400800"/>
            <a:ext cx="4724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DC Fact Sheet (May 31, 2015), http://www.cdc.gov/hepatitis/hcv/cfaq.htm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DC’s Recommendations of Whom Should be Tested?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Anyone Born from 1945 through 1965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received blood products with clotting factor before 1987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received blood transfusion or organ transplant before July 1992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ever injected drugs, even if only one tim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HIV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ve been on kidney dialysis for several year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re health or public safety workers who have been stuck with a needle or other sharp object with blood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orn to mother with hepatitis C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556200" indent="-237240">
              <a:spcBef>
                <a:spcPts val="550"/>
              </a:spcBef>
              <a:buClr>
                <a:srgbClr val="71685a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ase History Helps Develop Control Measures for Hepatitis C</a:t>
            </a:r>
            <a:br>
              <a:rPr sz="4400"/>
            </a:b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1. Investigation by the local health officer shall be performed within five (5) business days 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or the purpose of determining risk factors for infection and obtaining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ontac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Contacts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are defined as sexual partners, household members, individuals with whom needles have been shared, and others who have been exposed to infectious body fluid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ase History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vestigation shall focus on a history of the following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urge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ransfusion or other blood products exposures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emodialysi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ment as a health care worker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Other contacts with blood or other potentially infectious materials during the incubation period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e3d2d"/>
                </a:solidFill>
                <a:latin typeface="Tw Cen MT"/>
              </a:rPr>
              <a:t>Main Reporter: </a:t>
            </a:r>
            <a:r>
              <a:rPr b="1" lang="en-US" sz="2800" spc="-1" strike="noStrike">
                <a:solidFill>
                  <a:srgbClr val="3e3d2d"/>
                </a:solidFill>
                <a:latin typeface="Tw Cen MT"/>
              </a:rPr>
              <a:t>Electronic lab </a:t>
            </a:r>
            <a:r>
              <a:rPr b="0" lang="en-US" sz="2800" spc="-1" strike="noStrike">
                <a:solidFill>
                  <a:srgbClr val="3e3d2d"/>
                </a:solidFill>
                <a:latin typeface="Tw Cen MT"/>
              </a:rPr>
              <a:t>reports</a:t>
            </a:r>
            <a:br>
              <a:rPr sz="2800"/>
            </a:br>
            <a:r>
              <a:rPr b="0" lang="en-US" sz="2800" spc="-1" strike="noStrike">
                <a:solidFill>
                  <a:srgbClr val="3e3d2d"/>
                </a:solidFill>
                <a:latin typeface="Tw Cen MT"/>
              </a:rPr>
              <a:t>Analysis of Hepatitis C (acute and chronic) reports received during a 6 month period</a:t>
            </a:r>
            <a:br>
              <a:rPr sz="2800"/>
            </a:br>
            <a:endParaRPr b="0" lang="en-US" sz="28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1768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Oval 1"/>
          <p:cNvSpPr/>
          <p:nvPr/>
        </p:nvSpPr>
        <p:spPr>
          <a:xfrm>
            <a:off x="2971800" y="2971800"/>
            <a:ext cx="1828800" cy="1828800"/>
          </a:xfrm>
          <a:prstGeom prst="ellipse">
            <a:avLst/>
          </a:prstGeom>
          <a:noFill/>
          <a:ln w="190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Oval 4"/>
          <p:cNvSpPr/>
          <p:nvPr/>
        </p:nvSpPr>
        <p:spPr>
          <a:xfrm>
            <a:off x="3733920" y="1600200"/>
            <a:ext cx="4937040" cy="4937040"/>
          </a:xfrm>
          <a:prstGeom prst="ellipse">
            <a:avLst/>
          </a:prstGeom>
          <a:noFill/>
          <a:ln w="1908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Box 2"/>
          <p:cNvSpPr/>
          <p:nvPr/>
        </p:nvSpPr>
        <p:spPr>
          <a:xfrm>
            <a:off x="5410080" y="2666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s only, 98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2133720" y="35053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rs,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3886200" y="350532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, 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457200" y="5486400"/>
            <a:ext cx="3124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1 had neither of those records (report originated from another public health dept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Acute vs. Chronic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80880" y="2133720"/>
          <a:ext cx="8153640" cy="2565360"/>
        </p:xfrm>
        <a:graphic>
          <a:graphicData uri="http://schemas.openxmlformats.org/drawingml/2006/table">
            <a:tbl>
              <a:tblPr/>
              <a:tblGrid>
                <a:gridCol w="1600200"/>
                <a:gridCol w="3835440"/>
                <a:gridCol w="271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hro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linical Ill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hort term illness that occurs within the first six months after exposure to the viru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ong term illness that occurs as the virus remains in the bod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og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ually progresses to chronic infec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quelae include cirrhosis, liver cancer and death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soc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 cases seen with increasing IVD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lood transfusions, IVDU, sex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Lab Reporting Lacks Case History Ability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bs usually do not receive name of patient for whom running te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ot required to receive such inform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receive a positive test, report positive to LHD and provid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Without personal identifying information, LHD can</a:t>
            </a:r>
            <a:r>
              <a:rPr b="0" lang="ja-JP" sz="2600" spc="-1" strike="noStrike">
                <a:solidFill>
                  <a:srgbClr val="000000"/>
                </a:solidFill>
                <a:latin typeface="Tw Cen MT"/>
              </a:rPr>
              <a:t>’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 conduct case histor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2120" indent="-24804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oviders generally unable to locate patient because of transient nature of intravenous drug user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National Counts of Reports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95360" y="156636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1676520"/>
          <a:ext cx="7543800" cy="99360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838440"/>
                <a:gridCol w="838080"/>
                <a:gridCol w="838080"/>
                <a:gridCol w="838440"/>
                <a:gridCol w="838080"/>
                <a:gridCol w="838080"/>
                <a:gridCol w="838440"/>
              </a:tblGrid>
              <a:tr h="331560">
                <a:tc gridSpan="9"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epatitis C Virus (HC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</a:tr>
              <a:tr h="605880"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,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,7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,1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533520" y="3463920"/>
          <a:ext cx="7848360" cy="216684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616120"/>
              </a:tblGrid>
              <a:tr h="627120">
                <a:tc gridSpan="3"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timated Actual New Cases of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CV (rang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7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8560"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1 (estimated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2 (estimated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13 (estimated)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3cc"/>
                    </a:solidFill>
                  </a:tcPr>
                </a:tc>
              </a:tr>
              <a:tr h="911160"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6,500 (7,200-43,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4,700 (19,600-84,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42920" rIns="142920" tIns="28440" bIns="284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,700 (23,500-101,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42920" marR="14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4"/>
          <p:cNvSpPr/>
          <p:nvPr/>
        </p:nvSpPr>
        <p:spPr>
          <a:xfrm flipV="1" rot="10800000">
            <a:off x="914040" y="5177160"/>
            <a:ext cx="6553080" cy="15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ato"/>
              </a:rPr>
              <a:t>* Actual acute cases estimated to be 13.9 times the number of reported cases in any yea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urce: </a:t>
            </a:r>
            <a:r>
              <a:rPr b="0" lang="en-US" sz="1200" spc="-1" strike="noStrike" u="sng">
                <a:solidFill>
                  <a:srgbClr val="e68200"/>
                </a:solidFill>
                <a:uFillTx/>
                <a:latin typeface="Tahoma"/>
                <a:hlinkClick r:id="rId1"/>
              </a:rPr>
              <a:t>http://www.cdc.gov/hepatitis/hbv/statisticshbv.htm#section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Gaps in Care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58120" indent="-2581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ajority of States Medicaid programs only allow a specialty provider to treat and get reimbursed for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fosbuvir, an effective medicine, considered a 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on-preferred</a:t>
            </a:r>
            <a:r>
              <a:rPr b="0" lang="ja-JP" sz="2900" spc="-1" strike="noStrike">
                <a:solidFill>
                  <a:srgbClr val="000000"/>
                </a:solidFill>
                <a:latin typeface="Tw Cen MT"/>
              </a:rPr>
              <a:t>”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drug, which requires medical necessity to be provided to pati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Medical necessity: liver fibrosis score of F3, or F4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Liver fibrosis precursor to cirrhosis or cance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18040" indent="-22068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gher score, more liver fibrosi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58120" indent="-2581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F Scores Across the States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56480" cy="41860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4"/>
          <p:cNvSpPr/>
          <p:nvPr/>
        </p:nvSpPr>
        <p:spPr>
          <a:xfrm>
            <a:off x="6399720" y="1752480"/>
            <a:ext cx="767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1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2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3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F4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Impact on Women: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generally overlooked when developing interven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ck of women-focused services for treatment and preven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likely to lack access to care, let alone a specialized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lder women are more likely to develop fibrosis and are less responsive than younger women to pegylated interferon and ribaviri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TextBox 3"/>
          <p:cNvSpPr/>
          <p:nvPr/>
        </p:nvSpPr>
        <p:spPr>
          <a:xfrm>
            <a:off x="1905120" y="6102360"/>
            <a:ext cx="7086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Jenny Iversen, et. al., JAIDS 69:pS176-S181 (2015). Kaiser Family Foundation, Health Reform: Implications for Women's Access to Coverage and Care (2013). Mary Jane Burton, et. al., South Med J. 2013;106(7):422-426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Impact on Women: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omen of childbearing age have higher rates of sustained virologic response, but current therapies are contraindicated during pregnanc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Vertical transmission of hepatitis C virus occurs, but data supporting recommendations for prevention of mother-to-infant transmission are limit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c600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 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pproximately 1 in 20 chance mother passes it to chil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3962520" y="647712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Hepatitis in Pregnancy, Paediatr Child Health. 2008 Jul; 13(6): 535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e3d2d"/>
                </a:solidFill>
                <a:latin typeface="Tw Cen MT"/>
              </a:rPr>
              <a:t>Questions?</a:t>
            </a:r>
            <a:endParaRPr b="0" lang="en-US" sz="60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Virginia A. Caine, M.D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342d"/>
                </a:solidFill>
                <a:latin typeface="Tw Cen MT"/>
              </a:rPr>
              <a:t>317-221-2301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68200"/>
                </a:solidFill>
                <a:uFillTx/>
                <a:latin typeface="Tw Cen MT"/>
                <a:hlinkClick r:id="rId1"/>
              </a:rPr>
              <a:t>vcaine@marionhealth.org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cott County pop. 24,000; Austin, IN pop. 4,200ott County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Indiana HIV outbreak: geographic distribution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pop. 4,200</a:t>
            </a:r>
            <a:endParaRPr b="0" lang="en-US" sz="2400" spc="-1" strike="noStrike">
              <a:solidFill>
                <a:srgbClr val="3e3d2d"/>
              </a:solidFill>
              <a:latin typeface="Tw Cen MT"/>
            </a:endParaRPr>
          </a:p>
        </p:txBody>
      </p:sp>
      <p:pic>
        <p:nvPicPr>
          <p:cNvPr id="144" name="Content Placeholder 7" descr=""/>
          <p:cNvPicPr/>
          <p:nvPr/>
        </p:nvPicPr>
        <p:blipFill>
          <a:blip r:embed="rId1"/>
          <a:stretch/>
        </p:blipFill>
        <p:spPr>
          <a:xfrm>
            <a:off x="833400" y="1668600"/>
            <a:ext cx="2747880" cy="4525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5" name="5-Point Star 13"/>
          <p:cNvSpPr/>
          <p:nvPr/>
        </p:nvSpPr>
        <p:spPr>
          <a:xfrm>
            <a:off x="2309760" y="3875040"/>
            <a:ext cx="106560" cy="103320"/>
          </a:xfrm>
          <a:custGeom>
            <a:avLst/>
            <a:gdLst/>
            <a:ahLst/>
            <a:rect l="l" t="t" r="r" b="b"/>
            <a:pathLst>
              <a:path w="106362" h="103187">
                <a:moveTo>
                  <a:pt x="0" y="39414"/>
                </a:moveTo>
                <a:lnTo>
                  <a:pt x="40627" y="39414"/>
                </a:lnTo>
                <a:lnTo>
                  <a:pt x="53181" y="0"/>
                </a:lnTo>
                <a:lnTo>
                  <a:pt x="65735" y="39414"/>
                </a:lnTo>
                <a:lnTo>
                  <a:pt x="106362" y="39414"/>
                </a:lnTo>
                <a:lnTo>
                  <a:pt x="73494" y="63773"/>
                </a:lnTo>
                <a:lnTo>
                  <a:pt x="86049" y="103187"/>
                </a:lnTo>
                <a:lnTo>
                  <a:pt x="53181" y="78827"/>
                </a:lnTo>
                <a:lnTo>
                  <a:pt x="20313" y="103187"/>
                </a:lnTo>
                <a:lnTo>
                  <a:pt x="32868" y="63773"/>
                </a:lnTo>
                <a:lnTo>
                  <a:pt x="0" y="39414"/>
                </a:lnTo>
                <a:close/>
              </a:path>
            </a:pathLst>
          </a:custGeom>
          <a:solidFill>
            <a:srgbClr val="0070c0"/>
          </a:solidFill>
          <a:ln w="10080">
            <a:solidFill>
              <a:srgbClr val="94c600"/>
            </a:solidFill>
            <a:round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759120" y="1676520"/>
            <a:ext cx="4324320" cy="3267000"/>
          </a:xfrm>
          <a:prstGeom prst="rect">
            <a:avLst/>
          </a:prstGeom>
          <a:ln w="0">
            <a:noFill/>
          </a:ln>
        </p:spPr>
      </p:pic>
      <p:sp>
        <p:nvSpPr>
          <p:cNvPr id="147" name="Oval 2"/>
          <p:cNvSpPr/>
          <p:nvPr/>
        </p:nvSpPr>
        <p:spPr>
          <a:xfrm>
            <a:off x="2438280" y="4894200"/>
            <a:ext cx="457200" cy="343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3654360" y="5237280"/>
            <a:ext cx="4865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ott County: Among the state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92 counties, ranked 9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n a variety of health and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ial indicators, including life expecta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49" name="Straight Arrow Connector 19"/>
          <p:cNvCxnSpPr/>
          <p:nvPr/>
        </p:nvCxnSpPr>
        <p:spPr>
          <a:xfrm flipH="1" flipV="1">
            <a:off x="2895120" y="5064840"/>
            <a:ext cx="991440" cy="280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0" name="Oval 9"/>
          <p:cNvSpPr/>
          <p:nvPr/>
        </p:nvSpPr>
        <p:spPr>
          <a:xfrm>
            <a:off x="5533920" y="3476520"/>
            <a:ext cx="152640" cy="15264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Demographics of HIV-infected cases  (N=135)</a:t>
            </a:r>
            <a:endParaRPr b="0" lang="en-US" sz="28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480" y="14475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Median age 32 years, range 18-57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45% fema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55% mal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100% non-Hispanic whit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Of 112 interviewed, 108 (96%) injected drug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ll oxymorphone, some methamphetamine and heroin as wel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igh poverty (19.0%) and unemployment (8.9%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Low educational attainment (21.3% no high school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High proportion without health insur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5790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18960" indent="0">
              <a:lnSpc>
                <a:spcPts val="11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3d2d"/>
                </a:solidFill>
                <a:latin typeface="Tw Cen MT"/>
              </a:rPr>
              <a:t>Early Release, MMWR Morb Mortal Wkly Report 2015, April 24, 2015; U.S. Census </a:t>
            </a:r>
            <a:r>
              <a:rPr b="0" lang="en-US" sz="1000" spc="-1" strike="noStrike" u="sng">
                <a:solidFill>
                  <a:srgbClr val="e68200"/>
                </a:solidFill>
                <a:uFillTx/>
                <a:latin typeface="Tw Cen MT"/>
                <a:hlinkClick r:id="rId1"/>
              </a:rPr>
              <a:t>http://quickfacts.census.gov/qfd/states/18/18143.html</a:t>
            </a:r>
            <a:r>
              <a:rPr b="1" lang="en-US" sz="1000" spc="-1" strike="noStrike">
                <a:solidFill>
                  <a:srgbClr val="3e3d2d"/>
                </a:solidFill>
                <a:latin typeface="Tw Cen MT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Use among of HIV-infected cases (N=108)</a:t>
            </a:r>
            <a:endParaRPr b="0" lang="en-US" sz="28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2952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Multigenerationa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Sharing of injection equipment comm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Daily injections: 4-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Number of partners: 1-6 per injection ev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57909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318960" indent="0" algn="ctr">
              <a:lnSpc>
                <a:spcPts val="11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e3d2d"/>
                </a:solidFill>
                <a:latin typeface="Tw Cen MT"/>
              </a:rPr>
              <a:t>Early Release, MMWR Morb Mortal Wkly Report 2015, April 24, 2015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456160" cy="2590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w Cen MT"/>
              </a:rPr>
              <a:t>Hepatitis C Infections</a:t>
            </a:r>
            <a:endParaRPr b="0" lang="en-US" sz="28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Convenience sample of specimens tested from high-risk persons (e.g., injection-equipment sharing or sexual partner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HIV-infected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95% HCV co-inf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t-risk persons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st. 60% HCV monoinfect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Case Counts for Marion County, IN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52280" y="1828800"/>
          <a:ext cx="8839440" cy="3090960"/>
        </p:xfrm>
        <a:graphic>
          <a:graphicData uri="http://schemas.openxmlformats.org/drawingml/2006/table">
            <a:tbl>
              <a:tblPr/>
              <a:tblGrid>
                <a:gridCol w="1067040"/>
                <a:gridCol w="549000"/>
                <a:gridCol w="831960"/>
                <a:gridCol w="766800"/>
                <a:gridCol w="831960"/>
                <a:gridCol w="765000"/>
                <a:gridCol w="831960"/>
                <a:gridCol w="766800"/>
                <a:gridCol w="831600"/>
                <a:gridCol w="765360"/>
                <a:gridCol w="831960"/>
              </a:tblGrid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hr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1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rans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  <a:ea typeface="Calibri"/>
                        </a:rPr>
                        <a:t>gen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Un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Hepatitis C in Marion County, IN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ew chronic hepatitis C cases among females have remained steady during 2010-2014; whereas chronic cases among males has somewhat decreased during the past two year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cute hepatitis C cases in the female population saw about a 3-fold increase from 2013 to 2014; a smaller increase was realized among males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71685a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2015 Data, Marion County, IN</a:t>
            </a:r>
            <a:r>
              <a:rPr b="0" lang="en-US" sz="4400" spc="-1" strike="noStrike">
                <a:solidFill>
                  <a:srgbClr val="3e3d2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3e3d2d"/>
              </a:solidFill>
              <a:latin typeface="Tw Cen MT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2362320"/>
          <a:ext cx="8153640" cy="1112760"/>
        </p:xfrm>
        <a:graphic>
          <a:graphicData uri="http://schemas.openxmlformats.org/drawingml/2006/table">
            <a:tbl>
              <a:tblPr/>
              <a:tblGrid>
                <a:gridCol w="2718000"/>
                <a:gridCol w="2717640"/>
                <a:gridCol w="27180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Ac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hroni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166" name="TextBox 5"/>
          <p:cNvSpPr/>
          <p:nvPr/>
        </p:nvSpPr>
        <p:spPr>
          <a:xfrm>
            <a:off x="762120" y="40384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numbers suggest 2015 hepatitis C numbers will surpass the numbers from 201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2:09:01Z</dcterms:created>
  <dc:creator>jlincoln</dc:creator>
  <dc:description/>
  <dc:language>en-US</dc:language>
  <cp:lastModifiedBy>Paul T Babcock</cp:lastModifiedBy>
  <cp:lastPrinted>2015-10-15T18:34:38Z</cp:lastPrinted>
  <dcterms:modified xsi:type="dcterms:W3CDTF">2015-10-16T19:06:15Z</dcterms:modified>
  <cp:revision>626</cp:revision>
  <dc:subject/>
  <dc:title>The State of the Syphilis Outbreak in Marion County, Indiana: Two Years ago and Now</dc:title>
</cp:coreProperties>
</file>