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263-F51C-4355-905D-40625D62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F31-1927-482F-9D42-DC77555B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233-B3AB-4AA2-8D9C-3561CCD6D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9D2-39F5-4F9C-972D-5D40164F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85A-9FCE-4C12-8EDC-08F978A8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4FF-F9FB-4FE1-AFF7-64432385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CA8-EFE9-4D38-AE29-03B3AC43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FE1C-7A23-466A-896F-3A8A925C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2EB-2724-4855-A403-DC322CBA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53E0-8212-4B17-A609-E7557DE6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50E-185E-4878-911C-A2E5303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4D64-9785-4B09-BD41-FD46FB19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C4C8-C6C2-4D12-B53A-A010BE897A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:\GCCAC\logo\GCCAC_logo_color_500_JPG[1].jpg"/>
          <p:cNvPicPr/>
          <p:nvPr/>
        </p:nvPicPr>
        <p:blipFill>
          <a:blip r:embed="rId1"/>
          <a:stretch/>
        </p:blipFill>
        <p:spPr>
          <a:xfrm>
            <a:off x="838080" y="0"/>
            <a:ext cx="7315200" cy="302904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5628600" y="4924440"/>
            <a:ext cx="212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3152"/>
                </a:solidFill>
                <a:latin typeface="Calibri"/>
              </a:rPr>
              <a:t>Duane Yoder, Presid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3152"/>
                </a:solidFill>
                <a:latin typeface="Calibri"/>
              </a:rPr>
              <a:t>104 E. Center S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3152"/>
                </a:solidFill>
                <a:latin typeface="Calibri"/>
              </a:rPr>
              <a:t>Oakland, MD 2155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3152"/>
                </a:solidFill>
                <a:latin typeface="Calibri"/>
              </a:rPr>
              <a:t>301 334-943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5496120" y="5943600"/>
            <a:ext cx="23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dyoder@garrettcac.or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706680" y="3809880"/>
            <a:ext cx="537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Economic Security for Women and their Famil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A Two Generation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November 5, 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984807"/>
                </a:solidFill>
                <a:latin typeface="Lucida Sans Unicode"/>
                <a:ea typeface="Arial"/>
              </a:rPr>
              <a:t>Economic Security for Women and their Families</a:t>
            </a:r>
            <a:br>
              <a:rPr sz="1800"/>
            </a:br>
            <a:r>
              <a:rPr b="0" lang="en-US" sz="1800" spc="-1" strike="noStrike">
                <a:solidFill>
                  <a:srgbClr val="984807"/>
                </a:solidFill>
                <a:latin typeface="Lucida Sans Unicode"/>
                <a:ea typeface="Arial"/>
              </a:rPr>
              <a:t>A Two Generation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3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rrett County Profil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pulation – 30,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lat population grow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7715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g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seholds – 11,47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edian Household Income $45,28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overty Rate 1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0% Reside outside incorporated are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argest town of 2,1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57 Square Mi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entral Appalach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CCAC Famil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rivate non profi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amilies with Young Children   1,5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ngle Par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ngle Parent  Female                    6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le                                                  1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wo Parents                                     75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hildren in HS/EHS                                   3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tal households                                   5,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otal Individuals                                    9,0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ulti Service  or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mmunity Development Corp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cal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U:\2G Initiaitve\congressional briefing\MD_Garrett_map.png"/>
          <p:cNvPicPr/>
          <p:nvPr/>
        </p:nvPicPr>
        <p:blipFill>
          <a:blip r:embed="rId1"/>
          <a:stretch/>
        </p:blipFill>
        <p:spPr>
          <a:xfrm>
            <a:off x="1523880" y="4648320"/>
            <a:ext cx="2990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Lucida Sans Unicode"/>
                <a:ea typeface="Arial"/>
              </a:rPr>
              <a:t>Economic Security for Women and their Families</a:t>
            </a:r>
            <a:br>
              <a:rPr sz="1800"/>
            </a:br>
            <a:r>
              <a:rPr b="0" lang="en-US" sz="1800" spc="-1" strike="noStrike">
                <a:solidFill>
                  <a:srgbClr val="984807"/>
                </a:solidFill>
                <a:latin typeface="Lucida Sans Unicode"/>
                <a:ea typeface="Arial"/>
              </a:rPr>
              <a:t>A Two Generation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CCAC is Implementing 2 Generation Initiati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ECF Action Learning 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-G Model Connects with current 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our existing core beliefs and theory of Ch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llent school readiness outcomes for children in GCCAC’s early child education pr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rray of family economic support services in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ed with recently updated GCCAC Strategic Plan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osing Income Readiness G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adiness Scores of Low Income Children in Garrett (10 yrs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mpact on School Syste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trategies Us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Performance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redi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ransition to schoo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urriculum Align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876920" y="2212920"/>
            <a:ext cx="367668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U:\2G Initiaitve\congressional briefing\68heald start (4)a.JPG"/>
          <p:cNvPicPr/>
          <p:nvPr/>
        </p:nvPicPr>
        <p:blipFill>
          <a:blip r:embed="rId2"/>
          <a:stretch/>
        </p:blipFill>
        <p:spPr>
          <a:xfrm>
            <a:off x="2438280" y="4800600"/>
            <a:ext cx="19051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Lucida Sans Unicode"/>
                <a:ea typeface="Arial"/>
              </a:rPr>
              <a:t>Economic Security for Women and their Families</a:t>
            </a:r>
            <a:br>
              <a:rPr sz="1800"/>
            </a:br>
            <a:r>
              <a:rPr b="0" lang="en-US" sz="1800" spc="-1" strike="noStrike">
                <a:solidFill>
                  <a:srgbClr val="984807"/>
                </a:solidFill>
                <a:latin typeface="Lucida Sans Unicode"/>
                <a:ea typeface="Arial"/>
              </a:rPr>
              <a:t>A Two Generation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xisting 2G Family Economic Suppo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isting GCCAC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sset building (financial education, IDAs, EITC, home ownership, energy , education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tabilization (housing, child care, transportation,  food,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y Connections to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me Visit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ome based GE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ealt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Policy Work  (economic dev., vocational training and career ladde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G  GCCAC Strategic Cha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hat was learned from Pilo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ortance of social capit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pecific Service Gap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GCCAC also operated in silo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oordinators need of suppo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ing from program/grant environment to family outcomes mod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 wrong doo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thway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ing and tracking family succes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pporting Coordin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racking and reporting outco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ne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U:\2G Initiaitve\congressional briefing\84smalltown.jpg"/>
          <p:cNvPicPr/>
          <p:nvPr/>
        </p:nvPicPr>
        <p:blipFill>
          <a:blip r:embed="rId1"/>
          <a:stretch/>
        </p:blipFill>
        <p:spPr>
          <a:xfrm>
            <a:off x="838080" y="4495680"/>
            <a:ext cx="22860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Lucida Sans Unicode"/>
                <a:ea typeface="Arial"/>
              </a:rPr>
              <a:t>Economic Security for Women and their Families</a:t>
            </a:r>
            <a:br>
              <a:rPr sz="1800"/>
            </a:br>
            <a:r>
              <a:rPr b="0" lang="en-US" sz="1800" spc="-1" strike="noStrike">
                <a:solidFill>
                  <a:srgbClr val="984807"/>
                </a:solidFill>
                <a:latin typeface="Lucida Sans Unicode"/>
                <a:ea typeface="Arial"/>
              </a:rPr>
              <a:t>A Two Generation Approa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66840" y="16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Status and Future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ECF Stud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mily Economic Well Being Meas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ng Term School Performa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stained Employment Outcom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BG/Head Start 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icy Conside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reaking down sil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U:\2G Initiaitve\congressional briefing\DSC03741.JPG"/>
          <p:cNvPicPr/>
          <p:nvPr/>
        </p:nvPicPr>
        <p:blipFill>
          <a:blip r:embed="rId1"/>
          <a:stretch/>
        </p:blipFill>
        <p:spPr>
          <a:xfrm>
            <a:off x="3968640" y="4648320"/>
            <a:ext cx="1665360" cy="1523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U:\2G Initiaitve\congressional briefing\DSC03274.JPG"/>
          <p:cNvPicPr/>
          <p:nvPr/>
        </p:nvPicPr>
        <p:blipFill>
          <a:blip r:embed="rId2"/>
          <a:stretch/>
        </p:blipFill>
        <p:spPr>
          <a:xfrm>
            <a:off x="5600880" y="2971800"/>
            <a:ext cx="142848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U:\2G Initiaitve\congressional briefing\DSC02736.JPG"/>
          <p:cNvPicPr/>
          <p:nvPr/>
        </p:nvPicPr>
        <p:blipFill>
          <a:blip r:embed="rId3"/>
          <a:stretch/>
        </p:blipFill>
        <p:spPr>
          <a:xfrm>
            <a:off x="6958080" y="1295280"/>
            <a:ext cx="142236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3:03:23Z</dcterms:created>
  <dc:creator>Duane Yoder</dc:creator>
  <dc:description/>
  <dc:language>en-US</dc:language>
  <cp:lastModifiedBy>Duane Yoder</cp:lastModifiedBy>
  <cp:lastPrinted>2013-11-04T11:46:34Z</cp:lastPrinted>
  <dcterms:modified xsi:type="dcterms:W3CDTF">2013-11-04T11:57:16Z</dcterms:modified>
  <cp:revision>25</cp:revision>
  <dc:subject/>
  <dc:title>PowerPoint Presentation</dc:title>
</cp:coreProperties>
</file>